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7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6.gif" ContentType="image/gif"/>
  <Override PartName="/ppt/media/image20.jpeg" ContentType="image/jpeg"/>
  <Override PartName="/ppt/media/image14.gif" ContentType="image/gif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8E38-FA61-484A-8E9D-B9A41B4493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B01A-8F71-4906-98EA-63AB6BEDC0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5F15-8BD8-4FDB-A4A1-B11D6621E8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A67-CA6B-4D8D-B817-6B739F58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9EB-1F78-4B78-8DB8-05A03556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F2FA-1A40-4269-838B-7427F36F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5AD-6842-4AF7-9D9C-745A9A8B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D25-B799-46BB-B470-8973D13F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7C3-CB28-4675-8481-1C1D12B3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36B-5209-4928-BEEB-2B1372AD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6B4F-03B3-4304-A705-094E8B9D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17A0-7306-4729-BAFD-D205F04E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2C92-AB1C-4BE6-BC76-09A73BEA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BC8-5AEA-445A-8DCE-9603FCC7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85F9-E39D-4935-8411-23E2F62D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F782-A9DF-4C5E-A63B-9CB5128DCE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3.mp3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4.mp3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5.mp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6.mkv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Georgia"/>
              </a:rPr>
              <a:t>Урок доброты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Arial"/>
              </a:rPr>
              <a:t>по рассказу Ю.Я.Яковле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Georgia"/>
              </a:rPr>
              <a:t>«Баваклава»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Администратор\Рабочий стол\7 rkfcc\бабушки.jpeg"/>
          <p:cNvPicPr/>
          <p:nvPr/>
        </p:nvPicPr>
        <p:blipFill>
          <a:blip r:embed="rId2"/>
          <a:stretch/>
        </p:blipFill>
        <p:spPr>
          <a:xfrm>
            <a:off x="285840" y="1214280"/>
            <a:ext cx="2000160" cy="244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4572000" y="5716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Быть добрым хорошо и радос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обро приносит человеку то удовлетвор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какого не знает никогда злой, быть добрым – счаст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Ю. Яков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:\Documents and Settings\Администратор\Рабочий стол\урок доброты\24.gif"/>
          <p:cNvPicPr/>
          <p:nvPr/>
        </p:nvPicPr>
        <p:blipFill>
          <a:blip r:embed="rId3"/>
          <a:stretch/>
        </p:blipFill>
        <p:spPr>
          <a:xfrm>
            <a:off x="6929280" y="4500720"/>
            <a:ext cx="14716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душие (горе запаздывало»)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нетущая тяжесть» – воспоминания о лучших минутах жизни (а связаны-то они с бабушкой!) – тревожные мысли – горько-горько на сердц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есчастен, кто берёт, но не даёт взаимн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счастлив оттого, что брал, но и даю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уда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амый счастливый человек тот, кто даёт счастье наибольшему числу людей»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                  </a:t>
            </a: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.Дид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ет ничего выше и прекраснее, чем давать счастье многим людям».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                 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000" spc="-1" strike="noStrike">
                <a:solidFill>
                  <a:srgbClr val="4bacc6"/>
                </a:solidFill>
                <a:latin typeface="Times New Roman"/>
                <a:ea typeface="Times New Roman"/>
              </a:rPr>
              <a:t>Л.Бетхов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2600" y="857160"/>
            <a:ext cx="78152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ковый слова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71680" y="1785960"/>
            <a:ext cx="575784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Благодарность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– благо дар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Гуманность -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человечность, человеколюбие, уважение к человеческому достоинств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5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572160" y="1928880"/>
            <a:ext cx="2214720" cy="2214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book"/>
          <p:cNvPicPr/>
          <p:nvPr/>
        </p:nvPicPr>
        <p:blipFill>
          <a:blip r:embed="rId2"/>
          <a:stretch/>
        </p:blipFill>
        <p:spPr>
          <a:xfrm>
            <a:off x="928800" y="4214880"/>
            <a:ext cx="264312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85880" y="571320"/>
            <a:ext cx="300060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нь, я пойд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 куда ты? Борис Иванович сейчас освободится. Поплавае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не надо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тебе надо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пли… для бабуш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 брось ты! Подождет она свои капл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! Она не может ждать! Не может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Администратор\Рабочий стол\7 rkfcc\sokol_3.jpg"/>
          <p:cNvPicPr/>
          <p:nvPr/>
        </p:nvPicPr>
        <p:blipFill>
          <a:blip r:embed="rId1"/>
          <a:stretch/>
        </p:blipFill>
        <p:spPr>
          <a:xfrm>
            <a:off x="571680" y="1357200"/>
            <a:ext cx="41432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А.Шилов </a:t>
            </a:r>
            <a:r>
              <a:rPr b="0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«Зацвел багульн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Documents and Settings\Администратор\Рабочий стол\7 rkfcc\багульник бабушка.JPG"/>
          <p:cNvPicPr/>
          <p:nvPr/>
        </p:nvPicPr>
        <p:blipFill>
          <a:blip r:embed="rId2"/>
          <a:stretch/>
        </p:blipFill>
        <p:spPr>
          <a:xfrm>
            <a:off x="2500200" y="1501920"/>
            <a:ext cx="405792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.Шилов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«Моя бабуш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Documents and Settings\Администратор\Рабочий стол\7 rkfcc\бабушка.jpeg"/>
          <p:cNvPicPr/>
          <p:nvPr/>
        </p:nvPicPr>
        <p:blipFill>
          <a:blip r:embed="rId2"/>
          <a:stretch/>
        </p:blipFill>
        <p:spPr>
          <a:xfrm>
            <a:off x="2428920" y="1225440"/>
            <a:ext cx="426564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душие (горе запаздывало»)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нетущая тяжесть» – воспоминания о лучших минутах жизни (а связаны-то они с бабушкой!) – тревожные мысли – горько-горько на сердце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хотелось закричать, но он задохнулся от своего 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отчаяния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на умрет, когда ее забудут, но пока хоть одно сердце помнит ее, она жива, - неожиданно подумал мальчик… - Он должен жить, чтобы нести людям то, чему его незаметно научила Баваклава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ить для людей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«Берегите друг друг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ите друг друг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ой согревай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ите друг друг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жать не давай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ите друг дру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ету позабудь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минуту досу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с другом побудь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Высотск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-1080" y="36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:\Documents and Settings\Администратор\Рабочий стол\7 rkfcc\l.jpeg"/>
          <p:cNvPicPr/>
          <p:nvPr/>
        </p:nvPicPr>
        <p:blipFill>
          <a:blip r:embed="rId1"/>
          <a:stretch/>
        </p:blipFill>
        <p:spPr>
          <a:xfrm>
            <a:off x="5214960" y="1521000"/>
            <a:ext cx="2739960" cy="38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ыть добрым хорошо и радост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Добро приносит человеку то удовлетворен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какого не знает никогда злой, быть добрым – счасть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Ю. Яковл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6840" y="35676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000160" y="1500120"/>
            <a:ext cx="71438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книги - …моя душа. Все, что я пережил, перестрадал сам, - все это оставило след в моем творчестве… Я незримо присутствую в каждом рассказе, в мыслях и чувствах своих героев. Они сокровенные, но я открыл их тебе. Может быть, они помогут тебе в жизни…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ля чего я пишу книги, рассказываю ребятам интересные истории, знакомлю их с разными людьми? Чтобы развлечь их? Нет. У моих книг другая задача – помочь ребятам жить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57120" y="571680"/>
            <a:ext cx="16606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14720" y="213840"/>
            <a:ext cx="392904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Главный гер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428760" y="121428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orbel"/>
              </a:rPr>
              <a:t>Леня Ш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3714840" y="12142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orbel"/>
              </a:rPr>
              <a:t>Юный Ш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Прямая со стрелкой 7"/>
          <p:cNvCxnSpPr/>
          <p:nvPr/>
        </p:nvCxnSpPr>
        <p:spPr>
          <a:xfrm flipH="1">
            <a:off x="2285280" y="1000080"/>
            <a:ext cx="107244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4" name="Прямая со стрелкой 9"/>
          <p:cNvCxnSpPr/>
          <p:nvPr/>
        </p:nvCxnSpPr>
        <p:spPr>
          <a:xfrm>
            <a:off x="4286160" y="1000080"/>
            <a:ext cx="8229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5" name="TextBox 8"/>
          <p:cNvSpPr/>
          <p:nvPr/>
        </p:nvSpPr>
        <p:spPr>
          <a:xfrm>
            <a:off x="571680" y="2571840"/>
            <a:ext cx="235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должен жить так, как незаметно научила его Бавакл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3714840" y="2571840"/>
            <a:ext cx="2928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он впервые взглянул на себя со стороны, другими глазами. Какой он, оказывается, черствый, грубый, невнимательный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Жизнь 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на на добрые дела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C:\Documents and Settings\Администратор\Рабочий стол\7 rkfcc\i.jpeg"/>
          <p:cNvPicPr/>
          <p:nvPr/>
        </p:nvPicPr>
        <p:blipFill>
          <a:blip r:embed="rId2"/>
          <a:stretch/>
        </p:blipFill>
        <p:spPr>
          <a:xfrm>
            <a:off x="1428840" y="1600200"/>
            <a:ext cx="628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Documents and Settings\Администратор\Мои документы\Мои рисунки\MP Navigator\2011_11_16\IMG.jpg"/>
          <p:cNvPicPr/>
          <p:nvPr/>
        </p:nvPicPr>
        <p:blipFill>
          <a:blip r:embed="rId1"/>
          <a:stretch/>
        </p:blipFill>
        <p:spPr>
          <a:xfrm>
            <a:off x="357120" y="1214280"/>
            <a:ext cx="5111640" cy="38181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0040" y="57168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C:\Documents and Settings\Администратор\Мои документы\Мои рисунки\MP Navigator\2011_11_16\IMG_0001.jpg"/>
          <p:cNvPicPr/>
          <p:nvPr/>
        </p:nvPicPr>
        <p:blipFill>
          <a:blip r:embed="rId2"/>
          <a:stretch/>
        </p:blipFill>
        <p:spPr>
          <a:xfrm>
            <a:off x="4929120" y="285840"/>
            <a:ext cx="4214880" cy="3124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Documents and Settings\Администратор\Мои документы\Мои рисунки\MP Navigator\2011_11_16\IMG_0002.jpg"/>
          <p:cNvPicPr/>
          <p:nvPr/>
        </p:nvPicPr>
        <p:blipFill>
          <a:blip r:embed="rId3"/>
          <a:stretch/>
        </p:blipFill>
        <p:spPr>
          <a:xfrm>
            <a:off x="6429240" y="3214800"/>
            <a:ext cx="4195800" cy="320976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10" descr=""/>
          <p:cNvPicPr/>
          <p:nvPr/>
        </p:nvPicPr>
        <p:blipFill>
          <a:blip r:embed="rId4"/>
          <a:stretch/>
        </p:blipFill>
        <p:spPr>
          <a:xfrm>
            <a:off x="420840" y="4181400"/>
            <a:ext cx="5084640" cy="1938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C:\Documents and Settings\Администратор\Рабочий стол\7287.gif"/>
          <p:cNvPicPr/>
          <p:nvPr/>
        </p:nvPicPr>
        <p:blipFill>
          <a:blip r:embed="rId5"/>
          <a:stretch/>
        </p:blipFill>
        <p:spPr>
          <a:xfrm>
            <a:off x="1428840" y="6072120"/>
            <a:ext cx="2286000" cy="285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C:\Documents and Settings\Администратор\Рабочий стол\003.gif"/>
          <p:cNvPicPr/>
          <p:nvPr/>
        </p:nvPicPr>
        <p:blipFill>
          <a:blip r:embed="rId6"/>
          <a:stretch/>
        </p:blipFill>
        <p:spPr>
          <a:xfrm>
            <a:off x="3989520" y="3000240"/>
            <a:ext cx="26542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енно закончить фразу «Я живу, чтобы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Книга"/>
          <p:cNvPicPr/>
          <p:nvPr/>
        </p:nvPicPr>
        <p:blipFill>
          <a:blip r:embed="rId1"/>
          <a:stretch/>
        </p:blipFill>
        <p:spPr>
          <a:xfrm rot="21184200">
            <a:off x="826560" y="1341000"/>
            <a:ext cx="302760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0"/>
          <p:cNvSpPr/>
          <p:nvPr/>
        </p:nvSpPr>
        <p:spPr>
          <a:xfrm>
            <a:off x="4643280" y="1090440"/>
            <a:ext cx="33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та книга про мальчика и его бабушку, которую он скороговоркой называл Баваклава. И если у тебя есть бабушка, то она наверняка чем- то похожа на Баваклаву. Прочти эту книгу и, может быть, ты станешь немного иначе относиться к своей бабушке да и к другим людям, которые живут рядом с тобой. И сможешь больше уважать себ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2520" y="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ышать нравственное звучание рассказа, создать условия для понимания учащимися нравственных проблем рассказа «Баваклава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доброту в детях, любовь к люд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:\Documents and Settings\Администратор\Рабочий стол\урок доброты\i.jpeg"/>
          <p:cNvPicPr/>
          <p:nvPr/>
        </p:nvPicPr>
        <p:blipFill>
          <a:blip r:embed="rId1"/>
          <a:stretch/>
        </p:blipFill>
        <p:spPr>
          <a:xfrm>
            <a:off x="1509840" y="5153040"/>
            <a:ext cx="860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3080" y="2571840"/>
            <a:ext cx="614376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внятная тревога портила хорошее расположение духа, как гвоздь в башмаке или соринка, угодившая в глаз… Хоккей поблек, утратил свою привлекательность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Администратор\Рабочий стол\big_395137.jpg"/>
          <p:cNvPicPr/>
          <p:nvPr/>
        </p:nvPicPr>
        <p:blipFill>
          <a:blip r:embed="rId1"/>
          <a:stretch/>
        </p:blipFill>
        <p:spPr>
          <a:xfrm>
            <a:off x="1357200" y="714240"/>
            <a:ext cx="23814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душие («горе запаздывало») 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71680" y="3714840"/>
            <a:ext cx="811512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нетущая тяжесть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Администратор\Рабочий стол\7 rkfcc\i_babushki_1.jpg"/>
          <p:cNvPicPr/>
          <p:nvPr/>
        </p:nvPicPr>
        <p:blipFill>
          <a:blip r:embed="rId1"/>
          <a:stretch/>
        </p:blipFill>
        <p:spPr>
          <a:xfrm>
            <a:off x="584280" y="1928880"/>
            <a:ext cx="3058920" cy="23479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3857760" y="1928880"/>
            <a:ext cx="435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Юный Шаров поймал себя на том, что раньше никогда не задумывался о Баваклаве. Она всегда была рядом, всегда старалась помочь ему, услужить 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C:\Documents and Settings\Администратор\Рабочий стол\урок доброты\20.gif"/>
          <p:cNvPicPr/>
          <p:nvPr/>
        </p:nvPicPr>
        <p:blipFill>
          <a:blip r:embed="rId2"/>
          <a:stretch/>
        </p:blipFill>
        <p:spPr>
          <a:xfrm>
            <a:off x="6732720" y="4214880"/>
            <a:ext cx="15541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29120" y="274680"/>
            <a:ext cx="3757680" cy="3154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Эпизоды из прошлого:</a:t>
            </a: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 поездке в ле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том, как поил солда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дружб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подарках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Администратор\Рабочий стол\239062.jpg"/>
          <p:cNvPicPr/>
          <p:nvPr/>
        </p:nvPicPr>
        <p:blipFill>
          <a:blip r:embed="rId1"/>
          <a:stretch/>
        </p:blipFill>
        <p:spPr>
          <a:xfrm>
            <a:off x="1000080" y="571680"/>
            <a:ext cx="2492280" cy="1643040"/>
          </a:xfrm>
          <a:prstGeom prst="rect">
            <a:avLst/>
          </a:prstGeom>
          <a:ln w="25560">
            <a:solidFill>
              <a:srgbClr val="5c4776"/>
            </a:solidFill>
            <a:miter/>
          </a:ln>
        </p:spPr>
      </p:pic>
      <p:pic>
        <p:nvPicPr>
          <p:cNvPr id="72" name="Picture 4" descr="C:\Documents and Settings\Администратор\Рабочий стол\clip5.jpeg"/>
          <p:cNvPicPr/>
          <p:nvPr/>
        </p:nvPicPr>
        <p:blipFill>
          <a:blip r:embed="rId2"/>
          <a:stretch/>
        </p:blipFill>
        <p:spPr>
          <a:xfrm>
            <a:off x="1643040" y="2857680"/>
            <a:ext cx="3500640" cy="1928520"/>
          </a:xfrm>
          <a:prstGeom prst="rect">
            <a:avLst/>
          </a:prstGeom>
          <a:ln w="25560">
            <a:solidFill>
              <a:srgbClr val="8c3836"/>
            </a:solidFill>
            <a:miter/>
          </a:ln>
        </p:spPr>
      </p:pic>
      <p:pic>
        <p:nvPicPr>
          <p:cNvPr id="73" name="Picture 6" descr="C:\Documents and Settings\Администратор\Рабочий стол\урок доброты\153141342.jpg"/>
          <p:cNvPicPr/>
          <p:nvPr/>
        </p:nvPicPr>
        <p:blipFill>
          <a:blip r:embed="rId3"/>
          <a:stretch/>
        </p:blipFill>
        <p:spPr>
          <a:xfrm>
            <a:off x="5715000" y="3214800"/>
            <a:ext cx="1928880" cy="2411280"/>
          </a:xfrm>
          <a:prstGeom prst="rect">
            <a:avLst/>
          </a:prstGeom>
          <a:ln w="25560">
            <a:solidFill>
              <a:srgbClr val="5c477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душие («горе запаздывало») – «гнетущая тяжесть»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14240" y="2356920"/>
            <a:ext cx="79725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поминания  о лучших минутах жизни (а связаны-то они с бабушкой!) – тревожные мыс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5:01:03Z</dcterms:created>
  <dc:creator>Zver</dc:creator>
  <dc:description>http://aida.ucoz.ru</dc:description>
  <dc:language>en-US</dc:language>
  <cp:lastModifiedBy>Анжела Владимировна</cp:lastModifiedBy>
  <dcterms:modified xsi:type="dcterms:W3CDTF">2014-01-03T15:58:37Z</dcterms:modified>
  <cp:revision>52</cp:revision>
  <dc:subject/>
  <dc:title>Урок доброты </dc:title>
</cp:coreProperties>
</file>